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034-4B03-40D3-A931-F7A74B58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97D-68D5-4C04-8415-B4547B5E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F5D-A522-4CA8-BBC4-1321D207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FAA-7ED9-493C-8B23-C832283B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CB1-D1BD-4B17-9029-48EABC19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B23-9F55-4583-AE46-2DBCD18F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3E1-9500-44A5-BB8E-236627C1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4FB-F01C-4AA2-8C76-71C8A2D3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DED-68DE-42B8-8480-4090C916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F25-FF60-4606-9F5F-84AC555E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1E3-AD32-4926-90D5-1427E5DB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2AC-9233-47CD-942D-4C4605CE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1204-21C9-4AFA-87AB-D8013AEF3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Eine neue Schulunifor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5084280"/>
            <a:ext cx="55054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y Orla Sheeh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entury Gothic"/>
              </a:rPr>
              <a:t>Winteruni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625920" cy="3948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40360" y="1844640"/>
            <a:ext cx="4762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5:08:34Z</dcterms:created>
  <dc:creator>sheehorl</dc:creator>
  <dc:description/>
  <dc:language>en-US</dc:language>
  <cp:lastModifiedBy>sheehorl</cp:lastModifiedBy>
  <dcterms:modified xsi:type="dcterms:W3CDTF">2009-09-07T05:17:41Z</dcterms:modified>
  <cp:revision>2</cp:revision>
  <dc:subject/>
  <dc:title>Eine neue Schuluniform</dc:title>
</cp:coreProperties>
</file>